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A7C-401B-4BB3-9997-F79A9B78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7CF-C360-45D0-9D11-9EE3613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77D-BFAB-4A1F-951A-CDF9ED66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058-6A8D-4D9B-AEC4-4FFB0B93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8D6-B248-4CA1-AF85-855D3B1D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BDF-7E3D-4EC1-80B5-B67ED4E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949-EE5C-416E-A8C1-1F579CF5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1FC-D6A0-4C78-A390-069B9F97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F55-862C-41B5-B17B-B7C76A2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B66-7E9C-4428-B1FD-B47EA60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B51-8104-4699-8DBF-F77852BE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DE4-0230-4648-BCD8-67D07CA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DC6-4902-494E-82BE-63D33F631E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9694"/>
                </a:solidFill>
                <a:latin typeface="Bradley Hand ITC"/>
              </a:rPr>
              <a:t>Exploring The Use</a:t>
            </a:r>
            <a:br>
              <a:rPr sz="4400"/>
            </a:br>
            <a:r>
              <a:rPr b="1" lang="en-US" sz="4400" spc="-1" strike="noStrike">
                <a:solidFill>
                  <a:srgbClr val="d99694"/>
                </a:solidFill>
                <a:latin typeface="Bradley Hand ITC"/>
              </a:rPr>
              <a:t> of Graphic Organizers in the Classroom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Bradley Hand ITC"/>
              </a:rPr>
              <a:t>Rebecca Russ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Bradley Hand ITC"/>
              </a:rPr>
              <a:t>Wilmington Colle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9694"/>
                </a:solidFill>
                <a:latin typeface="Bradley Hand ITC"/>
                <a:ea typeface="Aharoni"/>
              </a:rPr>
              <a:t>Consistent, Coherent, Creative:</a:t>
            </a:r>
            <a:br>
              <a:rPr sz="4000"/>
            </a:br>
            <a:r>
              <a:rPr b="1" lang="en-US" sz="4000" spc="-1" strike="noStrike">
                <a:solidFill>
                  <a:srgbClr val="d99694"/>
                </a:solidFill>
                <a:latin typeface="Bradley Hand ITC"/>
                <a:ea typeface="Aharoni"/>
              </a:rPr>
              <a:t>The 3 C’s of Graphic Organiz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1f497d"/>
          </a:solidFill>
          <a:ln w="9360">
            <a:solidFill>
              <a:srgbClr val="4bacc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4a2"/>
                </a:solidFill>
                <a:latin typeface="Calibri"/>
              </a:rPr>
              <a:t>Baxendell (2003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onsistent: </a:t>
            </a:r>
            <a:r>
              <a:rPr b="0" lang="en-US" sz="1900" spc="-1" strike="noStrike">
                <a:solidFill>
                  <a:srgbClr val="00b050"/>
                </a:solidFill>
                <a:latin typeface="Bradley Hand ITC"/>
              </a:rPr>
              <a:t>Standard set of graphic organizers, establish a routin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oherent: </a:t>
            </a:r>
            <a:r>
              <a:rPr b="0" lang="en-US" sz="1900" spc="-1" strike="noStrike">
                <a:solidFill>
                  <a:srgbClr val="00b050"/>
                </a:solidFill>
                <a:latin typeface="Bradley Hand ITC"/>
              </a:rPr>
              <a:t>Limit # of ideas covered, minimize distraction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reative: </a:t>
            </a:r>
            <a:r>
              <a:rPr b="0" lang="en-US" sz="1900" spc="-1" strike="noStrike">
                <a:solidFill>
                  <a:srgbClr val="00b050"/>
                </a:solidFill>
                <a:latin typeface="Bradley Hand ITC"/>
              </a:rPr>
              <a:t>Use as in class and out of class assignments, add illustrations, work with cooperative groups or pairs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4a2"/>
                </a:solidFill>
                <a:latin typeface="Calibri"/>
              </a:rPr>
              <a:t>Common Graphic Organiz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ause &amp; Effect Diagram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Sequence Ch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Main Idea &amp; Detail Ch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ompare/ Contrast Diagra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92d050"/>
                </a:solidFill>
                <a:latin typeface="Bradley Hand ITC"/>
              </a:rPr>
              <a:t>Different Routes to the Same Destination: </a:t>
            </a:r>
            <a:br>
              <a:rPr sz="3600"/>
            </a:br>
            <a:r>
              <a:rPr b="1" lang="en-US" sz="3600" spc="-1" strike="noStrike">
                <a:solidFill>
                  <a:srgbClr val="92d050"/>
                </a:solidFill>
                <a:latin typeface="Bradley Hand ITC"/>
              </a:rPr>
              <a:t>Drawing Conclusions with Tiered Graphic Organiz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Bradley Hand ITC"/>
              </a:rPr>
              <a:t>Mary C. McMackin &amp; Nancy L. Witherell, (2005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Bradley Hand ITC"/>
              </a:rPr>
              <a:t>Differentiating Instruction for all student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Bradley Hand ITC"/>
              </a:rPr>
              <a:t>Developing Successful Graphic Organiz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radley Hand ITC"/>
              </a:rPr>
              <a:t>7 Steps to Follow to do so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Identify the concept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Decide on the outcom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Think about the level of the student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How can you challenge student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Continue to focus on the desired outcom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Match students to the appropriate graphic organizer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Assess student’s work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adley Hand ITC"/>
              </a:rPr>
              <a:t>Comic Strips as a Text Structure for Learning To Read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Bradley Hand ITC"/>
              </a:rPr>
              <a:t>Claudia J. McVicker (2007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Bradley Hand ITC"/>
              </a:rPr>
              <a:t>Importance of comic strip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“</a:t>
            </a: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Using comics can alleviate the negative view of reading for some children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Help motivate disengaged read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Another way to teach reading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Comics are easily accessibl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adley Hand ITC"/>
              </a:rPr>
              <a:t>Using Comic Books as Read-Alouds:</a:t>
            </a:r>
            <a:br>
              <a:rPr sz="4000"/>
            </a:br>
            <a:r>
              <a:rPr b="1" lang="en-US" sz="4000" spc="-1" strike="noStrike">
                <a:solidFill>
                  <a:srgbClr val="00b050"/>
                </a:solidFill>
                <a:latin typeface="Bradley Hand ITC"/>
              </a:rPr>
              <a:t>Insights on Reading Instruction</a:t>
            </a:r>
            <a:br>
              <a:rPr sz="4000"/>
            </a:br>
            <a:r>
              <a:rPr b="1" lang="en-US" sz="4000" spc="-1" strike="noStrike">
                <a:solidFill>
                  <a:srgbClr val="00b050"/>
                </a:solidFill>
                <a:latin typeface="Bradley Hand ITC"/>
              </a:rPr>
              <a:t>From an English as a Second Language Classroo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Bradley Hand ITC"/>
              </a:rPr>
              <a:t>Jason Ranker, 200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Comic books increase reading comprehens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Comic books can spark interest in new subjects or help students reflect on subjects they are already interested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Use of comic strips to scaffold stud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9694"/>
                </a:solidFill>
                <a:latin typeface="Bradley Hand ITC"/>
              </a:rPr>
              <a:t>Exploring The Use</a:t>
            </a:r>
            <a:br>
              <a:rPr sz="4000"/>
            </a:br>
            <a:r>
              <a:rPr b="1" lang="en-US" sz="4000" spc="-1" strike="noStrike">
                <a:solidFill>
                  <a:srgbClr val="d99694"/>
                </a:solidFill>
                <a:latin typeface="Bradley Hand ITC"/>
              </a:rPr>
              <a:t> of Graphic Organizers in the Classroo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2d050"/>
                </a:solidFill>
                <a:latin typeface="Bradley Hand ITC"/>
              </a:rPr>
              <a:t>Why Use Graphic Organizer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Help develop in depth thinking process for studen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Help students learn to think criticall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Help students analyze their though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Bradley Hand ITC"/>
              </a:rPr>
              <a:t>Benefits of Graphic Organiz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radley Hand ITC"/>
              </a:rPr>
              <a:t>Develop Organizational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radley Hand ITC"/>
              </a:rPr>
              <a:t>Offer Way to Differentiate Instruction for Stud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radley Hand ITC"/>
              </a:rPr>
              <a:t>Offer Variety for students &amp;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Bradley Hand ITC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Be open minded to using comic strips as a graphic organiz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Differentiate Instruction based on students’ needs by using graphic organiz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Develop a set of graphic organizers that will be used and maintain a routine in the classro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Assign graphic organizers across the curricul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Bradley Hand ITC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Baxendell, B.W., (2003). Consistent, coherent, creative: The 3 C’s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of graphic organizers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eaching Exceptional Children, 35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3),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46-5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McMackin, M.C., Witherell, N.L., (2005). Different routes to the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same destination: drawing conclusions with tiered graphic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organizers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he Reading Teacher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,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59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3), 242-252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McVicker, C.J., (2007). Comic strips as a text structure for learning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to read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he Reading Teacher 61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1), 85-88.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Ranker, J., (2007). Using comic books as read-alouds: Insights on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reading instruction from an English as a Second Language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classroom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he Reading Teacher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,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61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4), 296-305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7:12:11Z</dcterms:created>
  <dc:creator>Becky Russell</dc:creator>
  <dc:description/>
  <dc:language>en-US</dc:language>
  <cp:lastModifiedBy>Becky Russell</cp:lastModifiedBy>
  <dcterms:modified xsi:type="dcterms:W3CDTF">2010-10-06T18:09:22Z</dcterms:modified>
  <cp:revision>7</cp:revision>
  <dc:subject/>
  <dc:title>Exploring The Use  of Graphic Organizers in the Classroom</dc:title>
</cp:coreProperties>
</file>